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7345B2-256A-420E-817B-021939D7B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71395B9-28D3-41A5-BF8F-4C01FEE19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9F0997-3D3E-46DD-8652-C9011BAF5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99E83F-9810-443A-B5A4-FAA89B97A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AEC3AD-FA1A-46F4-B018-6B233435D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4A6773-BFCB-4730-868A-98EB01324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74BE0C-918D-47F0-8D44-912369977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E2916C-AAD7-4C93-8A92-3C4E10AE6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55FC07-2D8B-4158-8F48-2154D03BF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D2B255-036C-4290-A648-04FB3A583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CA20B2-DEC2-457E-A7CC-87C70CD69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4CCD61-ECB7-4358-9C87-CAF728D1D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C0DADC-8842-44C0-9EAB-C28838A8F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7BA709-8186-4D85-9FA5-2691C2A79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A5BF35-7AE9-4B0D-B0AE-6A83077B2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69C6-309C-4DCD-93CF-6CA98607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17EA-C02C-4158-ACB4-049AB5B1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87D0-C2FF-4F1E-AFA5-AA53E199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4AF7-1E0A-4F98-9329-0C4B0A78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67C-9C75-40FF-8BBA-6CF4AFAD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CF6-4E35-4C9E-8AD9-F6616CED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5EDF-1FCC-4C30-859A-6857D7D8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A900-62DA-4643-A6D2-82E4D59B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5431-DDFD-4C0C-800C-2A11A953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3E63-D3BF-4553-8CFE-C834B9A8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27C-15C4-48E5-AF39-34555C00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E7B-7734-4A26-9BF1-275175C1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A35E-0829-4837-958E-A8A4171A1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096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mography is NOT Destiny </a:t>
            </a: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5640" y="2819520"/>
            <a:ext cx="3962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st way to predict the future is to invent it”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Alan K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ry Gou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5,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63C4-A1E0-46A1-A637-F4AFB0823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mes to “Stretch” the Strategy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long Learning/Intellectual F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240" y="2895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 Distance Education as a Strategic Asset (reten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College Call Center (customer servi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ng in the “Age of Brands” - New Process for Virtual College Course Development (quality assuranc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raduate Research (multi-skill se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s of Professional Studies (flexible degre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7F7B-0450-4E9C-8569-8AB7549B0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Themes to “Stretch” the Strategy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wth= 20,000 by 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ance Education for Kansas Resi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guous State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mestic, Corporate, Governmental and Global Partnersh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urrent Enroll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rtual College Summer S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Residential and Greek Living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Scholarship Program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MS Acade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Transfer and Articulation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24CF-9A96-4C8C-97E2-8DD6020DF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Themes to “Stretch” the Strateg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 Engagement=4,750 by 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89898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icul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national Business and Fi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urism and Hospitality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lobal Business Engli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y Abroad/Student Exchanges (ISEP, SI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ulty Opportunities/Exchanges (Fulbrigh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-campus International Students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63 as of toda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ization 3.0/Global Leadership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itutional Partnerships/Cross Border Edu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0085-90E3-4DBE-8183-9E1A6D1A9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mes to “Stretch” the Strategy: Social Relev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30481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wards of Place (AASC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ance Education as a Strategic Asset (Complete College    Kansas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vic and Community Engagement (Convention Cen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rican Democracy Project (Swipe Hunger/Forsyth Librar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er for Civic Leadership (AAUW/Women’s Leadership Projec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1AF4-E743-4639-8AFC-E6738F037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mes to “Stretch” the Strategy: Learner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2280" y="25905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ents Foresight 2020 (system outcomes linked to writing, oral communications and transliteracies as an approach to Gen-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versity and Democracy (new IDS cour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ide the “RED BALLOON” Project (Next Generation Scholars and the Evolution of Learn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bile Learning (Smartphone Applic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Approaches to Assessment and Accountability (Regents Performance Agreements, Eduventu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BCF8-2ED0-4E60-8830-2EC013A7A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on-Centered, Market-Smart, Politically-Savv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g Value Pro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220968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history of American higher education….in the 2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 is written, we hope that becoming more market smart proves to be only part of the tale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rest of the story ought to be about using market smarts to regain control of institutional mi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about the restoration of American colleges and universities a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laces of public purpose.”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msky, Wegner and Massey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making the Americ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merican University: Market-Smart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ssion-Cente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005), p. 20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3373-D047-420F-8FA1-E221C9AD6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295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ivision of Academic Affairs Needs Your Help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ies for Meeting the Competition and Building the B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ming/New Unit Opportunities (Colleges, Departments, Programs, Faciliti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culty Of Distinction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udy/Travel Abroad/International Scholar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-Curricular Learning(Honors, Lecture Series, American Democracy Project, Swipe Hunger,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Spaces and Special Places (Outdoor Learning Commons, Democracy Plaza, Art Gallery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E78F-A705-4DA3-8F03-C8CA58265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losing, let me re-emphasize why FHSU thinks it’s so important to compete by “taking charge of change”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plains of hesitation, bleach the bones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less millions who at the dawn of victory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 down to wait….and waiting, di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e W. Cecil, 19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.  Ques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FC8C-C91A-4CAA-AC6C-F16AB7C3D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Fort Hays State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itutional Accredi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nding member in 2001 of the Higher Learning Commission’s (HLC/NCA) alternate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reditation track known as the Academic Quality Improvement Program (AQIP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ademic Programm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associate degrees(AGS and A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4 undergraduate degrees (Latest: THM, International Finance and Global Business English/construction management in proces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 graduate degrees (Latest: PSM and MPS/student affairs leadership in proces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 programs accessible off-campus fully online or in blended for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y Struc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e divisions: academic affairs, student affairs, admin-fin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academic colleges, Graduate School, Forsyth Library, Center for Teaching Excellence and Learning Technologies (CTELT), Office of Strategic Partnerships (OSP), distance education delivery unit called the Virtual College (V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0412-922C-4A6F-9461-46F440330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Fort Hays State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175248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ollment: The Way We Were (Fall, 199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campus: 47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campus:   83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d total:  555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ollment: The Way We Are (Fall, 20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campus: 4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campus: 8100 (3500 in Chi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d total:  13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D72B-3AE1-4B15-93E2-C9E356E56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sion, Vision and Tag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ew University 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t Hays State University (FHSU) provides accessible quality education to Kansas, the nation, and the world through an innovative community of teacher-scholars and professionals to develop engaged global citizen-lead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2020, FHSU will be recognized as one of the nation’s fastest growing universities in students served and quality of education provid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ag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ward thinking. World read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715C-C606-4001-A45E-54A7F5058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44792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lect List of Change-Drivers Creating Turmoil, Destabilization and Global Turbulence in Higher Edu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3160" y="25146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mergence of a more demanding, educated consumer with a “shopper’s mentality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hoices among a wider array of 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ient, relevant and close to home learning exper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ess to use several educational organizations on the way to one or more credentials/degr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pressure for flexibility/nimbleness to meet learner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ition: new providers/old play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owing, worldwide demand for lear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FA2E-86C9-4CB0-AE2E-66E21654C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elect List of Change-Driv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Turmoil, Destabilization and Global Turbulence in Higher Educa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29718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demographics/divers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ing need to integrate/apply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alization of a lifelong relationship between work and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ght in the squeeze: declining public funds vs. market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tional public reform imperative: access, affordability, assessment and account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B013-E159-493B-B8AB-4EAD31B26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FHSU Take Charge of Change in this Time of Turmoil and Turbulence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l-Time Strategic Planning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“Big, Hairy, Audacious Strategy” Guides the FHSU Choice of Strategic Themes and Competitive Capabiliti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al-Time Strategy for Shaping the FHSU Futu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sion-Centered, Market-Smart, Politically-Savv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EC6E-2762-43FD-B300-37CF337DA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-304920" y="51055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1523880" y="5334120"/>
            <a:ext cx="6324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1447920" y="4267080"/>
            <a:ext cx="6781680" cy="106704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1371600" y="548640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1066680" y="4114800"/>
            <a:ext cx="6705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990720" y="3505320"/>
            <a:ext cx="6476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1295280" y="56386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926F-3D18-4F9D-84B8-05755B1ED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12952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ng the Mission-Centered, Market-Smart, Politically-Savvy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trategy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The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ompetitive Cap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27"/>
          <p:cNvGrpSpPr/>
          <p:nvPr/>
        </p:nvGrpSpPr>
        <p:grpSpPr>
          <a:xfrm>
            <a:off x="304920" y="2438280"/>
            <a:ext cx="8610480" cy="3581280"/>
            <a:chOff x="304920" y="2438280"/>
            <a:chExt cx="8610480" cy="3581280"/>
          </a:xfrm>
        </p:grpSpPr>
        <p:sp>
          <p:nvSpPr>
            <p:cNvPr id="79" name="Text Box 28"/>
            <p:cNvSpPr/>
            <p:nvPr/>
          </p:nvSpPr>
          <p:spPr>
            <a:xfrm>
              <a:off x="1794960" y="2438280"/>
              <a:ext cx="7119360" cy="58824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Mission-Centered, Market-Smart, Politically-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avv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9"/>
            <p:cNvSpPr/>
            <p:nvPr/>
          </p:nvSpPr>
          <p:spPr>
            <a:xfrm>
              <a:off x="1794960" y="3593880"/>
              <a:ext cx="7120440" cy="8964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0"/>
            <p:cNvSpPr/>
            <p:nvPr/>
          </p:nvSpPr>
          <p:spPr>
            <a:xfrm>
              <a:off x="635760" y="4608000"/>
              <a:ext cx="8279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1"/>
            <p:cNvSpPr/>
            <p:nvPr/>
          </p:nvSpPr>
          <p:spPr>
            <a:xfrm>
              <a:off x="635760" y="3144240"/>
              <a:ext cx="8279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2"/>
            <p:cNvSpPr/>
            <p:nvPr/>
          </p:nvSpPr>
          <p:spPr>
            <a:xfrm>
              <a:off x="1848240" y="3733560"/>
              <a:ext cx="1461600" cy="6094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Innovat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Entrepreneursh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35"/>
            <p:cNvSpPr/>
            <p:nvPr/>
          </p:nvSpPr>
          <p:spPr>
            <a:xfrm>
              <a:off x="4610160" y="3733560"/>
              <a:ext cx="1136880" cy="6094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ow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36"/>
            <p:cNvSpPr/>
            <p:nvPr/>
          </p:nvSpPr>
          <p:spPr>
            <a:xfrm rot="10800000">
              <a:off x="2457000" y="3196440"/>
              <a:ext cx="496440" cy="2952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37"/>
            <p:cNvSpPr/>
            <p:nvPr/>
          </p:nvSpPr>
          <p:spPr>
            <a:xfrm rot="10800000">
              <a:off x="7755840" y="3196440"/>
              <a:ext cx="496440" cy="2952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38"/>
            <p:cNvSpPr/>
            <p:nvPr/>
          </p:nvSpPr>
          <p:spPr>
            <a:xfrm rot="10800000">
              <a:off x="5934600" y="3196440"/>
              <a:ext cx="496440" cy="2952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39"/>
            <p:cNvSpPr/>
            <p:nvPr/>
          </p:nvSpPr>
          <p:spPr>
            <a:xfrm rot="10800000">
              <a:off x="4278600" y="3196440"/>
              <a:ext cx="496440" cy="2952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40"/>
            <p:cNvSpPr/>
            <p:nvPr/>
          </p:nvSpPr>
          <p:spPr>
            <a:xfrm>
              <a:off x="1794960" y="5083200"/>
              <a:ext cx="7120440" cy="936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1"/>
            <p:cNvSpPr/>
            <p:nvPr/>
          </p:nvSpPr>
          <p:spPr>
            <a:xfrm>
              <a:off x="2126160" y="5196600"/>
              <a:ext cx="1655640" cy="705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adersh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42"/>
            <p:cNvSpPr/>
            <p:nvPr/>
          </p:nvSpPr>
          <p:spPr>
            <a:xfrm>
              <a:off x="4444560" y="5196600"/>
              <a:ext cx="1986840" cy="705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trategic Foc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lig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3"/>
            <p:cNvSpPr/>
            <p:nvPr/>
          </p:nvSpPr>
          <p:spPr>
            <a:xfrm>
              <a:off x="6928200" y="5196600"/>
              <a:ext cx="1656000" cy="705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4"/>
            <p:cNvSpPr/>
            <p:nvPr/>
          </p:nvSpPr>
          <p:spPr>
            <a:xfrm rot="10800000">
              <a:off x="2622600" y="4725720"/>
              <a:ext cx="496440" cy="2952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45"/>
            <p:cNvSpPr/>
            <p:nvPr/>
          </p:nvSpPr>
          <p:spPr>
            <a:xfrm rot="10800000">
              <a:off x="5106600" y="4725720"/>
              <a:ext cx="496440" cy="2952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46"/>
            <p:cNvSpPr/>
            <p:nvPr/>
          </p:nvSpPr>
          <p:spPr>
            <a:xfrm rot="10800000">
              <a:off x="7590240" y="4725720"/>
              <a:ext cx="496440" cy="2952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47"/>
            <p:cNvSpPr/>
            <p:nvPr/>
          </p:nvSpPr>
          <p:spPr>
            <a:xfrm>
              <a:off x="304920" y="5078880"/>
              <a:ext cx="1490040" cy="7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Interacti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ompetiti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apabil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48"/>
            <p:cNvSpPr/>
            <p:nvPr/>
          </p:nvSpPr>
          <p:spPr>
            <a:xfrm>
              <a:off x="304920" y="3784680"/>
              <a:ext cx="149004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trateg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The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49"/>
            <p:cNvSpPr/>
            <p:nvPr/>
          </p:nvSpPr>
          <p:spPr>
            <a:xfrm>
              <a:off x="470160" y="2490480"/>
              <a:ext cx="132444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pproa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32"/>
            <p:cNvSpPr/>
            <p:nvPr/>
          </p:nvSpPr>
          <p:spPr>
            <a:xfrm>
              <a:off x="3391560" y="3657960"/>
              <a:ext cx="1056240" cy="76212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ifelo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arning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Intellect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Fu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35"/>
          <p:cNvSpPr/>
          <p:nvPr/>
        </p:nvSpPr>
        <p:spPr>
          <a:xfrm>
            <a:off x="5867280" y="3733920"/>
            <a:ext cx="1524240" cy="609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Eng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2"/>
          <p:cNvSpPr/>
          <p:nvPr/>
        </p:nvSpPr>
        <p:spPr>
          <a:xfrm>
            <a:off x="7467480" y="3733920"/>
            <a:ext cx="1447920" cy="609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Relevanc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er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mes to “Stretch” the Strategy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ng on Innovation/Entrepreneurship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23623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ing Innovative Curricular 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BBA in Management/Marketing (sustaining innov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Business English(new market disruptive innov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Science Masters (low-end disruptive innov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Management (incremental innov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vative Institutional Organization &amp; Re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e of Strategic Partner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nsas Academy of Math and Science (KA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ver Higher Education Opportunity Cen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 of Business and Entrepreneu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F98D-3482-4A38-9EA9-2123B65E3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6:35:10Z</dcterms:created>
  <dc:creator>temp</dc:creator>
  <dc:description/>
  <dc:language>en-US</dc:language>
  <cp:lastModifiedBy>Janet Kohl</cp:lastModifiedBy>
  <dcterms:modified xsi:type="dcterms:W3CDTF">2012-05-29T16:46:01Z</dcterms:modified>
  <cp:revision>199</cp:revision>
  <dc:subject/>
  <dc:title>Slide 1</dc:title>
</cp:coreProperties>
</file>