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B6D6E7-C033-4081-933B-9A7CE9D2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D919E8-0DDB-4C9D-B7CA-F54613D2A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211CED-D9BB-479A-9A8C-7D622097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11D05A-8E8D-444D-908A-7F0D34C6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DC30E6-76FD-4E61-893F-208DC951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DFB335-1422-4BC2-94B4-8C9C0894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1F575D-16BE-4143-8363-A109080B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DB74BF-8416-47A5-A4CF-D999C051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8AD021-04BF-459D-9F00-A3B782AF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349988-B3E6-4A97-96C9-DA47E26A7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F1ABF0-D16A-43AA-95C5-B4993F6E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6408DF-8749-4201-AA14-77796868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9131A-AE61-4347-80C0-D94BAB90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9CB5D1-2E4F-404E-8348-C9A8BDDF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9744F8-40B6-4CC9-832E-8D6F4F7E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465-5999-4A8B-BD5E-6685DD48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40F-7253-46C8-ADAF-0240EB4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0C0-304C-4F4F-9321-36A51223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E18-A484-441A-85C9-0733B713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652-4ACC-4FF0-8BEF-FD5A2D9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8B-7B8B-4B03-9AB4-652F994A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2DC-D5B5-4E76-B8CA-E092019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957-82E3-4F3D-916E-3A185A98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C87-8CD5-46F2-9F60-DDF3A7A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31D-B13D-49C3-8067-49BBA10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A42-A980-460F-9C95-ED44933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92E-38B5-4D75-BCB8-25280403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CCF-273D-4AE2-B1DE-C1712005D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graphy is NOT Destiny 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2819520"/>
            <a:ext cx="3962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way to predict the future is to invent it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Ala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G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5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B7D9-B5CF-4CBF-98F7-94299DB26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long Learning/Intellectual F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240" y="2895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 Distance Education as a Strategic Asset (reten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ollege Call Center (customer serv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in the “Age of Brands” - New Process for Virtual College Course Development (quality assuranc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aduate Research (multi-skill se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of Professional Studies (flexible degre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976F-56E6-4A0D-BAF7-36F5112A8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= 20,000 by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Education for Kansas Resi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guous State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estic, Corporate, Governmental and Global Partner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rrent Enrol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rtual College Summer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Residential and Greek Living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Scholarship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MS Acade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Transfer and Articulation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D542-2B12-40B4-A0FF-91ECBDAE1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Themes to “Stretch” the Strateg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Engagement=4,750 by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9898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 Business and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urism and Hospitalit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lobal Business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y Abroad/Student Exchanges (ISEP, SI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ulty Opportunities/Exchanges (Fulbrigh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-campus International Student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63 as of toda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ization 3.0/Global Leadership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ional Partnerships/Cross Border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1C7C-F7FF-472C-9DE1-E42F54060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mes to “Stretch” the Strategy: Social 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30481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wards of Place (AASC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ance Education as a Strategic Asset (Complete College    Kansa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vic and Community Engagement (Convention Cen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Democracy Project (Swipe Hunger/Forsyth Libra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er for Civic Leadership (AAUW/Women’s Leadership Proj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48F-7458-45AE-BA30-652490675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mes to “Stretch” the Strategy: Learner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2280" y="2590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ents Foresight 2020 (system outcomes linked to writing, oral communications and transliteracies as an approach to Gen-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and Democracy (new IDS cour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ide the “RED BALLOON” Project (Next Generation Scholars and the Evolution of Lear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e Learning (Smartphone Applic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Approaches to Assessment and Accountability (Regents Performance Agreements, Edu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5EF-F5AE-473F-88E7-26E1BCC37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-Centered, Market-Smart, Politically-Savv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Value Pro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2096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history of American higher education….in the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is written, we hope that becoming more market smart proves to be only part of the tal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rest of the story ought to be about using market smarts to regain control of institutional 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about the restoration of American colleges and universities 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aces of public purpose.”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sky, Wegner and Massey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making the Ameri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erican University: Market-Smart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sion-Cent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5), p. 2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B3C-7E4F-4432-A2A7-FFB8E8A77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vision of Academic Affairs Needs Your Help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es for Meeting the Competition and Building the B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ming/New Unit Opportunities (Colleges, Departments, Programs, Faciliti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ulty Of Distinction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y/Travel Abroad/International Schola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urricular Learning(Honors, Lecture Series, American Democracy Project, Swipe Hunger,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Spaces and Special Places (Outdoor Learning Commons, Democracy Plaza, Art Gallery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9F6-3359-4EE3-897F-D65804B40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osing, let me re-emphasize why FHSU thinks it’s so important to compete by “taking charge of change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plains of hesitation, bleach the bones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less millions who at the dawn of victor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 down to wait….and waiting, d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W. Cecil,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.  Qu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17D-28EC-45FA-9BC1-7484451F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Fort Hays Stat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ional Accred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ing member in 2001 of the Higher Learning Commission’s (HLC/NCA) alternat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reditation track known as the Academic Quality Improvement Program (AQI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Program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associate degrees(AGS and A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4 undergraduate degrees (Latest: THM, International Finance and Global Business English/construction management in proce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 graduate degrees (Latest: PSM and MPS/student affairs leadership in proce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programs accessible off-campus fully online or in blended f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divisions: academic affairs, student affairs, admin-fin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academic colleges, Graduate School, Forsyth Library, Center for Teaching Excellence and Learning Technologies (CTELT), Office of Strategic Partnerships (OSP), distance education delivery unit called the Virtual College (V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083-F7B7-4514-8D7E-26FCABB93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Fort Hays State Univer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: The Way We Were (Fall, 199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campus: 47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campus:   8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:  55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: The Way We Are (Fall,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campus: 4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-campus: 8100 (3500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total:  13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677-67DF-4B8E-897E-9BB0A6871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on, Vision and Tag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w University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t Hays State University (FHSU) provides accessible quality education to Kansas, the nation, and the world through an innovative community of teacher-scholars and professionals to develop engaged global citizen-le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2020, FHSU will be recognized as one of the nation’s fastest growing universities in students served and quality of education provi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g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 thinking. World read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337-D0F7-4BDB-A33F-18819A0B4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lect List of Change-Drivers Creating Turmoil, Destabilization and Global Turbulence in Higher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16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mergence of a more demanding, educated consumer with a “shopper’s mentalit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hoices among a wider array of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t, relevant and close to home learning exper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ess to use several educational organizations on the way to one or more credentials/deg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ressure for flexibility/nimbleness to meet learn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on: new providers/old 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wing, worldwide demand for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5CE6-C20D-4E66-9EEC-C39B75A0E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 List of Change-Dri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Turmoil, Destabilization and Global Turbulence in Higher Edu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demographics/d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need to integrate/apply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ization of a lifelong relationship between work and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ght in the squeeze: declining public funds vs. market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public reform imperative: access, affordability, assessment and account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D0D-3B06-4823-BEAC-329AEEF1A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FHSU Take Charge of Change in this Time of Turmoil and Turbule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l-Time Strategic Planning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“Big, Hairy, Audacious Strategy” Guides the FHSU Choice of Strategic Themes and Competitive Capabilit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-Time Strategy for Shaping the FHSU Fu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-Centered, Market-Smart, Politically-Sav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F0CE-6AD4-46A6-A54C-7C160D5DD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-304920" y="51055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523880" y="5334120"/>
            <a:ext cx="6324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447920" y="4267080"/>
            <a:ext cx="6781680" cy="106704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371600" y="5486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066680" y="4114800"/>
            <a:ext cx="6705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990720" y="3505320"/>
            <a:ext cx="647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295280" y="56386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CA1-7D8C-49C8-B58B-AA7331B79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he Mission-Centered, Market-Smart, Politically-Savv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trateg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ompetitive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04920" y="2438280"/>
            <a:ext cx="8610480" cy="3581280"/>
            <a:chOff x="304920" y="2438280"/>
            <a:chExt cx="8610480" cy="3581280"/>
          </a:xfrm>
        </p:grpSpPr>
        <p:sp>
          <p:nvSpPr>
            <p:cNvPr id="79" name="Text Box 28"/>
            <p:cNvSpPr/>
            <p:nvPr/>
          </p:nvSpPr>
          <p:spPr>
            <a:xfrm>
              <a:off x="1794960" y="2438280"/>
              <a:ext cx="7119360" cy="588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ission-Centered, Market-Smart, Politically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avv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9"/>
            <p:cNvSpPr/>
            <p:nvPr/>
          </p:nvSpPr>
          <p:spPr>
            <a:xfrm>
              <a:off x="1794960" y="3593880"/>
              <a:ext cx="7120440" cy="8964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635760" y="4608000"/>
              <a:ext cx="82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>
              <a:off x="635760" y="3144240"/>
              <a:ext cx="82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1848240" y="3733560"/>
              <a:ext cx="1461600" cy="609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novat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ntrepreneu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5"/>
            <p:cNvSpPr/>
            <p:nvPr/>
          </p:nvSpPr>
          <p:spPr>
            <a:xfrm>
              <a:off x="4610160" y="3733560"/>
              <a:ext cx="1136880" cy="609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6"/>
            <p:cNvSpPr/>
            <p:nvPr/>
          </p:nvSpPr>
          <p:spPr>
            <a:xfrm rot="10800000">
              <a:off x="24570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7"/>
            <p:cNvSpPr/>
            <p:nvPr/>
          </p:nvSpPr>
          <p:spPr>
            <a:xfrm rot="10800000">
              <a:off x="775584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8"/>
            <p:cNvSpPr/>
            <p:nvPr/>
          </p:nvSpPr>
          <p:spPr>
            <a:xfrm rot="10800000">
              <a:off x="59346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9"/>
            <p:cNvSpPr/>
            <p:nvPr/>
          </p:nvSpPr>
          <p:spPr>
            <a:xfrm rot="10800000">
              <a:off x="4278600" y="319644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40"/>
            <p:cNvSpPr/>
            <p:nvPr/>
          </p:nvSpPr>
          <p:spPr>
            <a:xfrm>
              <a:off x="1794960" y="5083200"/>
              <a:ext cx="7120440" cy="936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1"/>
            <p:cNvSpPr/>
            <p:nvPr/>
          </p:nvSpPr>
          <p:spPr>
            <a:xfrm>
              <a:off x="2126160" y="5196600"/>
              <a:ext cx="165564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2"/>
            <p:cNvSpPr/>
            <p:nvPr/>
          </p:nvSpPr>
          <p:spPr>
            <a:xfrm>
              <a:off x="4444560" y="5196600"/>
              <a:ext cx="198684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 Fo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3"/>
            <p:cNvSpPr/>
            <p:nvPr/>
          </p:nvSpPr>
          <p:spPr>
            <a:xfrm>
              <a:off x="6928200" y="5196600"/>
              <a:ext cx="1656000" cy="705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4"/>
            <p:cNvSpPr/>
            <p:nvPr/>
          </p:nvSpPr>
          <p:spPr>
            <a:xfrm rot="10800000">
              <a:off x="262260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45"/>
            <p:cNvSpPr/>
            <p:nvPr/>
          </p:nvSpPr>
          <p:spPr>
            <a:xfrm rot="10800000">
              <a:off x="510660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6"/>
            <p:cNvSpPr/>
            <p:nvPr/>
          </p:nvSpPr>
          <p:spPr>
            <a:xfrm rot="10800000">
              <a:off x="7590240" y="4725720"/>
              <a:ext cx="496440" cy="2952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7"/>
            <p:cNvSpPr/>
            <p:nvPr/>
          </p:nvSpPr>
          <p:spPr>
            <a:xfrm>
              <a:off x="304920" y="5078880"/>
              <a:ext cx="14900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ompeti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8"/>
            <p:cNvSpPr/>
            <p:nvPr/>
          </p:nvSpPr>
          <p:spPr>
            <a:xfrm>
              <a:off x="304920" y="3784680"/>
              <a:ext cx="14900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T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9"/>
            <p:cNvSpPr/>
            <p:nvPr/>
          </p:nvSpPr>
          <p:spPr>
            <a:xfrm>
              <a:off x="470160" y="2490480"/>
              <a:ext cx="13244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trateg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ppro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3391560" y="3657960"/>
              <a:ext cx="1056240" cy="762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ifelo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arning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ntellect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u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867280" y="3733920"/>
            <a:ext cx="152424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7467480" y="3733920"/>
            <a:ext cx="144792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Releva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er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mes to “Stretch” the Strateg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ng on Innovation/Entrepreneurship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23623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Innovative Curricula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BA in Management/Marketing (sustaining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Business English(new market disruptive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Science Masters (low-end disruptive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Management (incremental innov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ive Institutional Organization &amp; Re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of Strategic 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nsas Academy of Math and Science (KA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ver Higher Education Opportunity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of Business and Entrepreneu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473-2D5E-4EF2-8A45-98DEF91BC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6:35:10Z</dcterms:created>
  <dc:creator>temp</dc:creator>
  <dc:description/>
  <dc:language>en-US</dc:language>
  <cp:lastModifiedBy>Janet Kohl</cp:lastModifiedBy>
  <dcterms:modified xsi:type="dcterms:W3CDTF">2012-05-29T16:46:01Z</dcterms:modified>
  <cp:revision>199</cp:revision>
  <dc:subject/>
  <dc:title>Slide 1</dc:title>
</cp:coreProperties>
</file>