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957A-6E7A-4E50-96A4-FBC655880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53FA-CC62-4FA7-93A7-30C2DED52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3964-3F0D-4AFB-8C01-BBEE78D36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90FE-8F51-40E0-BD3C-42D02866E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8B6D-55D5-4E00-AFDB-83E7C8015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02C4-54D5-425E-95FE-9ED13766F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5624-385E-488E-A0F7-497FFF357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7B7E-7FF3-45AF-B280-836B87947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F7F9-EB05-4365-BBA6-D5D28AD76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6D29-084B-4529-9813-9F1276F5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6F70-2721-49D0-8836-2B274FAF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CFD6-B31A-41E1-9DF8-C7493595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CF2BA-AD31-4320-B646-BFD3099AF5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Evaluation of Teaching Performance for Improvement and Accoun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2971440"/>
            <a:ext cx="6400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er for Teaching Excellence and Learning Technologies: A Colloqu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vember 1,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ry Go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295280" y="137124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 Current State of Aff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han useful primary instrument (e.g. formative feedback, personnel evaluation, program evaluation, advisement, who and for what?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r applicability to virtual learning environment/what gets evalua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ments inconsistent with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ministration of TEVAL does not create confidence in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han efficient processing and analy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0" y="13712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 Alternative Future: Pedagogical Respon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things important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re exams and other graded materials returned on a timely basi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 there sufficient feedback on tests and paper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re students tested on materials covered in the cours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re course materials well prepar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d the course unfold as promised in the syllabu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 the instructor accessible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more than ten questions related to pedagogical responsibility/comments for improv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learning environment – support systems, use of technology, receipt of material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ed from Stanley Fish, “Who’s in charge here?”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hronicle of Higher Educ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2/5/2005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6840" y="13712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buses and Mis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yond student input: over reliance on ratings in the evaluation of tea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ing too much of too lit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between teaching and learning/how does a student know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ases (gender, foreign-born instructors, ethnicity, attractive professors, easy graders, untenured professors, personality, class size, type of class, subject areas, required courses, instructor contamination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tting the log with a razor, 3.0 versus 3.1? Huh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information to make a good judgment (one course does not a teacher mak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3712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buses and Mis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able administration of rating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the elements of the instrument inappropriately (instructional delivery skills vs. content expertise ques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usion and lack of attention to purpose, learning environment and efficiencies in design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lure to conduct research to assess validity and reli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ations in selection of method for administration (online, paper, timing, who, etc.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1T13:51:33Z</dcterms:created>
  <dc:creator>Janet Kohl</dc:creator>
  <dc:description>Evaluation of Teaching Performance for Improvement and Accountability Center for Teaching Excellence and Learning Technologies: A Colloquium  November 1, 2007  Larry Gould The Current State of Affairs Less than useful primary instrument (e.g. formative feedback, personnel evaluation, program evaluation, advisement,</dc:description>
  <dc:language>en-US</dc:language>
  <cp:lastModifiedBy>Janet Kohl</cp:lastModifiedBy>
  <cp:lastPrinted>1904-01-01T00:00:00Z</cp:lastPrinted>
  <dcterms:modified xsi:type="dcterms:W3CDTF">2007-11-01T16:44:58Z</dcterms:modified>
  <cp:revision>0</cp:revision>
  <dc:subject>Evaluation of Teaching Performance for Improvement and Accountability Center for Teaching Excellence and Learning Technologies: A Colloquium  November 1, 2007  Larry Gould The Current State of Affairs Less than useful primary instrument (e.g. formative feedback, personnel evaluation, program evaluation, advisement,</dc:subject>
  <dc:title>eval teaching performan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EktAddress">
    <vt:lpwstr/>
  </property>
  <property fmtid="{D5CDD505-2E9C-101B-9397-08002B2CF9AE}" pid="3" name="EktCmsPath">
    <vt:lpwstr>&lt;p&gt;Evaluation of Teaching Performance for Improvement and Accountability Center for Teaching Excellence and Learning Technologies: A Colloquium  November 1, 2007  Larry Gould The Current State of Affairs Less than useful primary instrument (e.g. formative feedback, personnel evaluation, program evaluation, advisement,&lt;/p&gt;</vt:lpwstr>
  </property>
  <property fmtid="{D5CDD505-2E9C-101B-9397-08002B2CF9AE}" pid="4" name="EktCmsSize">
    <vt:r8>291840</vt:r8>
  </property>
  <property fmtid="{D5CDD505-2E9C-101B-9397-08002B2CF9AE}" pid="5" name="EktContentLanguage">
    <vt:r8>1033</vt:r8>
  </property>
  <property fmtid="{D5CDD505-2E9C-101B-9397-08002B2CF9AE}" pid="6" name="EktContentSubType">
    <vt:r8>0</vt:r8>
  </property>
  <property fmtid="{D5CDD505-2E9C-101B-9397-08002B2CF9AE}" pid="7" name="EktContentType">
    <vt:r8>101</vt:r8>
  </property>
  <property fmtid="{D5CDD505-2E9C-101B-9397-08002B2CF9AE}" pid="8" name="EktDateCreated">
    <vt:filetime>2009-11-24T19:25:27Z</vt:filetime>
  </property>
  <property fmtid="{D5CDD505-2E9C-101B-9397-08002B2CF9AE}" pid="9" name="EktDateModified">
    <vt:filetime>2009-11-24T19:25:28Z</vt:filetime>
  </property>
  <property fmtid="{D5CDD505-2E9C-101B-9397-08002B2CF9AE}" pid="10" name="EktEDescription">
    <vt:lpwstr>Summary &lt;p&gt;Evaluation of Teaching Performance for Improvement and Accountability Center for Teaching Excellence and Learning Technologies: A Colloquium  November 1, 2007  Larry Gould The Current State of Affairs Less than useful primary instrument (e.g. formative feedback, personnel evaluation, program evaluation, advisement,&lt;/p&gt;</vt:lpwstr>
  </property>
  <property fmtid="{D5CDD505-2E9C-101B-9397-08002B2CF9AE}" pid="11" name="EktExpiryType">
    <vt:r8>1</vt:r8>
  </property>
  <property fmtid="{D5CDD505-2E9C-101B-9397-08002B2CF9AE}" pid="12" name="EktFolderName">
    <vt:lpwstr/>
  </property>
  <property fmtid="{D5CDD505-2E9C-101B-9397-08002B2CF9AE}" pid="13" name="EktQuickLink">
    <vt:lpwstr>DownloadAsset.aspx?id=12884907161</vt:lpwstr>
  </property>
  <property fmtid="{D5CDD505-2E9C-101B-9397-08002B2CF9AE}" pid="14" name="EktSearchable">
    <vt:r8>1</vt:r8>
  </property>
  <property fmtid="{D5CDD505-2E9C-101B-9397-08002B2CF9AE}" pid="15" name="EktTaxCategory">
    <vt:lpwstr/>
  </property>
  <property fmtid="{D5CDD505-2E9C-101B-9397-08002B2CF9AE}" pid="16" name="ekttaxonomyenabled">
    <vt:r8>1</vt:r8>
  </property>
</Properties>
</file>