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98AD-FC17-46FF-9131-474478EE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D750-7F26-4FC0-A3F4-DC1C4B9F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933D-DFD6-44BD-976D-410A3D81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5AC0-9B94-4A46-A022-289F8601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F94D-4006-4FE2-88A9-6593BDD1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9439-4409-4AF9-8AA6-41E1C8A5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3B2F-977F-4905-A701-B2478B78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BA48-D2BA-47A5-97CC-6CBFC041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58DA-AE00-4AF6-8424-B3A904C3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C518-FF34-4DF0-BF32-A1C18815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4D69-1C2D-4C84-B419-1A4DA231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BFF5-2FC4-4C40-B44A-262A22FA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C149-FBDA-41A1-8A2C-55F67FA02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valuation of Teaching Performance for Improvement and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9714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er for Teaching Excellence and Learning Technologies: A Colloqu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mber 1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y G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95280" y="137124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Current State of Aff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useful primary instrument (e.g. formative feedback, personnel evaluation, program evaluation, advisement, who and for what?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applicability to virtual learning environment/what gets evalu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s inconsistent with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on of TEVAL does not create confidence in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efficient processing and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 Alternative Future: Pedagogical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hings important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e exams and other graded materials returned on a timely bas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there sufficient feedback on tests and pap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e students tested on materials covered in the cour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e course materials well prepa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the course unfold as promised in the syllabu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the instructor accessibl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ore than ten questions related to pedagogical responsibility/comments for impr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learning environment – support systems, use of technology, receipt of material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d from Stanley Fish, “Who’s in charge here?”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hronicle of Higher Educ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2/5/2005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buses and Mis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yond student input: over reliance on ratings in the evaluation of tea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too much of too li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between teaching and learning/how does a student kno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ases (gender, foreign-born instructors, ethnicity, attractive professors, easy graders, untenured professors, personality, class size, type of class, subject areas, required courses, instructor contamination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ting the log with a razor, 3.0 versus 3.1? Hu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information to make a good judgment (one course does not a teacher mak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buses and Mis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able administration of rati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elements of the instrument inappropriately (instructional delivery skills vs. content expertise ques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usion and lack of attention to purpose, learning environment and efficiencies in design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 to conduct research to assess validity and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tions in selection of method for administration (online, paper, timing, who, etc.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13:51:33Z</dcterms:created>
  <dc:creator>Janet Kohl</dc:creator>
  <dc:description>Evaluation of Teaching Performance for Improvement and Accountability Center for Teaching Excellence and Learning Technologies: A Colloquium  November 1, 2007  Larry Gould The Current State of Affairs Less than useful primary instrument (e.g. formative feedback, personnel evaluation, program evaluation, advisement,</dc:description>
  <dc:language>en-US</dc:language>
  <cp:lastModifiedBy>Janet Kohl</cp:lastModifiedBy>
  <cp:lastPrinted>1904-01-01T00:00:00Z</cp:lastPrinted>
  <dcterms:modified xsi:type="dcterms:W3CDTF">2007-11-01T16:44:58Z</dcterms:modified>
  <cp:revision>0</cp:revision>
  <dc:subject>Evaluation of Teaching Performance for Improvement and Accountability Center for Teaching Excellence and Learning Technologies: A Colloquium  November 1, 2007  Larry Gould The Current State of Affairs Less than useful primary instrument (e.g. formative feedback, personnel evaluation, program evaluation, advisement,</dc:subject>
  <dc:title>eval teaching perform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ktAddress">
    <vt:lpwstr/>
  </property>
  <property fmtid="{D5CDD505-2E9C-101B-9397-08002B2CF9AE}" pid="3" name="EktCmsPath">
    <vt:lpwstr>&lt;p&gt;Evaluation of Teaching Performance for Improvement and Accountability Center for Teaching Excellence and Learning Technologies: A Colloquium  November 1, 2007  Larry Gould The Current State of Affairs Less than useful primary instrument (e.g. formative feedback, personnel evaluation, program evaluation, advisement,&lt;/p&gt;</vt:lpwstr>
  </property>
  <property fmtid="{D5CDD505-2E9C-101B-9397-08002B2CF9AE}" pid="4" name="EktCmsSize">
    <vt:r8>291840</vt:r8>
  </property>
  <property fmtid="{D5CDD505-2E9C-101B-9397-08002B2CF9AE}" pid="5" name="EktContentLanguage">
    <vt:r8>1033</vt:r8>
  </property>
  <property fmtid="{D5CDD505-2E9C-101B-9397-08002B2CF9AE}" pid="6" name="EktContentSubType">
    <vt:r8>0</vt:r8>
  </property>
  <property fmtid="{D5CDD505-2E9C-101B-9397-08002B2CF9AE}" pid="7" name="EktContentType">
    <vt:r8>101</vt:r8>
  </property>
  <property fmtid="{D5CDD505-2E9C-101B-9397-08002B2CF9AE}" pid="8" name="EktDateCreated">
    <vt:filetime>2009-11-24T19:25:27Z</vt:filetime>
  </property>
  <property fmtid="{D5CDD505-2E9C-101B-9397-08002B2CF9AE}" pid="9" name="EktDateModified">
    <vt:filetime>2009-11-24T19:25:28Z</vt:filetime>
  </property>
  <property fmtid="{D5CDD505-2E9C-101B-9397-08002B2CF9AE}" pid="10" name="EktEDescription">
    <vt:lpwstr>Summary &lt;p&gt;Evaluation of Teaching Performance for Improvement and Accountability Center for Teaching Excellence and Learning Technologies: A Colloquium  November 1, 2007  Larry Gould The Current State of Affairs Less than useful primary instrument (e.g. formative feedback, personnel evaluation, program evaluation, advisement,&lt;/p&gt;</vt:lpwstr>
  </property>
  <property fmtid="{D5CDD505-2E9C-101B-9397-08002B2CF9AE}" pid="11" name="EktExpiryType">
    <vt:r8>1</vt:r8>
  </property>
  <property fmtid="{D5CDD505-2E9C-101B-9397-08002B2CF9AE}" pid="12" name="EktFolderName">
    <vt:lpwstr/>
  </property>
  <property fmtid="{D5CDD505-2E9C-101B-9397-08002B2CF9AE}" pid="13" name="EktQuickLink">
    <vt:lpwstr>DownloadAsset.aspx?id=12884907161</vt:lpwstr>
  </property>
  <property fmtid="{D5CDD505-2E9C-101B-9397-08002B2CF9AE}" pid="14" name="EktSearchable">
    <vt:r8>1</vt:r8>
  </property>
  <property fmtid="{D5CDD505-2E9C-101B-9397-08002B2CF9AE}" pid="15" name="EktTaxCategory">
    <vt:lpwstr/>
  </property>
  <property fmtid="{D5CDD505-2E9C-101B-9397-08002B2CF9AE}" pid="16" name="ekttaxonomyenabled">
    <vt:r8>1</vt:r8>
  </property>
</Properties>
</file>