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4DAB-22E9-4C69-B3EB-CCBBBEFD3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D71-C432-4FE8-94D2-74D6F134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1D97-CF97-43CB-9481-C34166C6A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EFB-1AA9-430E-BD05-44CE46E5B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AEF1-E387-4339-A89B-B1E636233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950F-DFAB-48E1-BFD0-0A7DDCF2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A4C-03A4-4F4D-86A1-931E14DC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44D2-93A0-4BEC-96B7-292BC798D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C26A-65CD-4D62-BA1D-81CD8A03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837-F0B2-4E3F-A595-A9CE93E8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13B-5AC9-401C-AED5-0CA86F80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D995-3954-465A-93C9-F5F521C4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8AAE-8413-4096-8695-87DC80FDC2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500"/>
                </a:solidFill>
                <a:latin typeface="Arial"/>
              </a:rPr>
              <a:t>Fort Hays State Univers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dget Challeng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Y 2009-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American Association of State Colleges and Univers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nGuard Study of Cost Sa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209680" y="3352680"/>
            <a:ext cx="6400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ffer on-line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duce administrative staff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e class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tructure IT and compu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.  Bookst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7"/>
          <p:cNvSpPr/>
          <p:nvPr/>
        </p:nvSpPr>
        <p:spPr>
          <a:xfrm>
            <a:off x="838080" y="1143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  <a:ea typeface="Times New Roman"/>
              </a:rPr>
              <a:t>FHSU Employ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2895480" y="548316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       Non-teaching        Teaching facul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0"/>
          <p:cNvSpPr/>
          <p:nvPr/>
        </p:nvSpPr>
        <p:spPr>
          <a:xfrm>
            <a:off x="2666880" y="5545080"/>
            <a:ext cx="228600" cy="152280"/>
          </a:xfrm>
          <a:prstGeom prst="rect">
            <a:avLst/>
          </a:prstGeom>
          <a:solidFill>
            <a:srgbClr val="ffd5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3429000" y="5559480"/>
            <a:ext cx="228600" cy="15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5334120" y="5559480"/>
            <a:ext cx="228600" cy="152280"/>
          </a:xfrm>
          <a:prstGeom prst="rect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ject 1" descr=""/>
          <p:cNvPicPr/>
          <p:nvPr/>
        </p:nvPicPr>
        <p:blipFill>
          <a:blip r:embed="rId2"/>
          <a:stretch/>
        </p:blipFill>
        <p:spPr>
          <a:xfrm>
            <a:off x="876240" y="1817640"/>
            <a:ext cx="76978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828440" y="30477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Difficult times need new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600200" y="2590920"/>
            <a:ext cx="7238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ademic mer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ase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rental cars instead of personal c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student workforce to fill vacant 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udent technology f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F.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ademic 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. Multi-discipline/Cross-disciplin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828440" y="18284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Difficult times need new ide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752120" y="30477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ositioned well because of Duty to Dream growt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599840" y="19807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FY 2010 Budget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590920" y="2590920"/>
            <a:ext cx="6172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spend Action Plan Fu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ition 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OE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OE Roll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mmer School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 Day Summer Work 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500"/>
                </a:solidFill>
                <a:latin typeface="Arial"/>
              </a:rPr>
              <a:t>Fort Hays State University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dget Challenge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Y 2009-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udget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09480" y="20574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ts/Sweeps/Unfunded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Y20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*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$480,367 base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$133,000 technology match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$266,000 state fund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$    2,906 energy conservational pay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$253,390 prior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$113,842 equipment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 $1,249,5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Budget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609480" y="20574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uts/Sweeps/Unfunded Man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Y2003 (began tuition ownershi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  507,000 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  235,236 salary annu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     75,857 fringe rate &amp; longe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*   $1,229,871 November base budget 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tal $2,047,9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9144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FY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3"/>
          <p:cNvSpPr/>
          <p:nvPr/>
        </p:nvSpPr>
        <p:spPr>
          <a:xfrm>
            <a:off x="609480" y="2057400"/>
            <a:ext cx="8382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$1,126,627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0% covered by one-time action plan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838080" y="342900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FY 20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33520" y="411480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  $2,628,79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0% plus 4.0% = 7.0% total FY2010 c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144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urrent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609480" y="129528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 picture of income and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chart"/>
          <p:cNvPicPr/>
          <p:nvPr/>
        </p:nvPicPr>
        <p:blipFill>
          <a:blip r:embed="rId2"/>
          <a:stretch/>
        </p:blipFill>
        <p:spPr>
          <a:xfrm>
            <a:off x="1371600" y="1898640"/>
            <a:ext cx="6781680" cy="44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Current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-76320" y="2743200"/>
            <a:ext cx="883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  750 million dolla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  15% cut of all state agencies to fix th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  down turn in capital 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  sales tax dec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.  no major loss in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62120" y="2666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 are at the cross roads between hope and fear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-Dr. Edward Hamm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209320"/>
            <a:ext cx="67816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Planning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Serve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Keep costs down for students (peer da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Protect faculty and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d5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500"/>
                </a:solidFill>
                <a:latin typeface="Arial"/>
              </a:rPr>
              <a:t>Ask people to do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152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d500"/>
                </a:solidFill>
                <a:latin typeface="Arial"/>
              </a:rPr>
              <a:t>American Association of State Colleges and Universit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nGuard Study of Cost Sav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752480" y="3352680"/>
            <a:ext cx="68580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nergy and Infrastructu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sortium purch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part-time facu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structure food and residential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rounds 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03:53Z</dcterms:created>
  <dc:creator>Suzanne Klaus</dc:creator>
  <dc:description>&amp;lt;p&amp;gt;Planning Principles Serve students Keep costs down for students (peer data) Protect faculty and staff Ask people to do more  Fort Hays State University Budget Challenge FY 2009-2010 Budget History Cuts/Sweeps/Unfunded Mandates          FY2002            *  $480,367 base cut        $133,000 technology match cut        $&amp;lt;/p&amp;gt;</dc:description>
  <dc:language>en-US</dc:language>
  <cp:lastModifiedBy>Suzanne Klaus</cp:lastModifiedBy>
  <dcterms:modified xsi:type="dcterms:W3CDTF">2008-12-05T20:15:48Z</dcterms:modified>
  <cp:revision>0</cp:revision>
  <dc:subject>&amp;lt;p&amp;gt;Planning Principles Serve students Keep costs down for students (peer data) Protect faculty and staff Ask people to do more  Fort Hays State University Budget Challenge FY 2009-2010 Budget History Cuts/Sweeps/Unfunded Mandates          FY2002            *  $480,367 base cut        $133,000 technology match cut        $&amp;lt;/p&amp;gt;</dc:subject>
  <dc:title>Budget Challenge 2009-2010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ktCmsPath">
    <vt:lpwstr>&amp;lt;p&amp;gt;Planning Principles Serve students Keep costs down for students (peer data) Protect faculty and staff Ask people to do more  Fort Hays State University Budget Challenge FY 2009-2010 Budget History Cuts/Sweeps/Unfunded Mandates          FY2002            *  $480,367 base cut        $133,000 technology match cut        $&amp;lt;/p&amp;gt;</vt:lpwstr>
  </property>
  <property fmtid="{D5CDD505-2E9C-101B-9397-08002B2CF9AE}" pid="3" name="EktCmsSize">
    <vt:r8>405504</vt:r8>
  </property>
  <property fmtid="{D5CDD505-2E9C-101B-9397-08002B2CF9AE}" pid="4" name="EktContentLanguage">
    <vt:r8>1033</vt:r8>
  </property>
  <property fmtid="{D5CDD505-2E9C-101B-9397-08002B2CF9AE}" pid="5" name="EktContentSubType">
    <vt:r8>0</vt:r8>
  </property>
  <property fmtid="{D5CDD505-2E9C-101B-9397-08002B2CF9AE}" pid="6" name="EktContentType">
    <vt:r8>101</vt:r8>
  </property>
  <property fmtid="{D5CDD505-2E9C-101B-9397-08002B2CF9AE}" pid="7" name="EktDateCreated">
    <vt:filetime>2010-07-06T15:08:24Z</vt:filetime>
  </property>
  <property fmtid="{D5CDD505-2E9C-101B-9397-08002B2CF9AE}" pid="8" name="EktDateModified">
    <vt:filetime>2010-07-06T15:08:25Z</vt:filetime>
  </property>
  <property fmtid="{D5CDD505-2E9C-101B-9397-08002B2CF9AE}" pid="9" name="EktEDescription">
    <vt:lpwstr>Summary &amp;lt;p&amp;gt;Planning Principles Serve students Keep costs down for students (peer data) Protect faculty and staff Ask people to do more  Fort Hays State University Budget Challenge FY 2009-2010 Budget History Cuts/Sweeps/Unfunded Mandates          FY2002            *  $480,367 base cut        $133,000 technology match cut        $&amp;lt;/p&amp;gt;</vt:lpwstr>
  </property>
  <property fmtid="{D5CDD505-2E9C-101B-9397-08002B2CF9AE}" pid="10" name="EktExpiryType">
    <vt:r8>1</vt:r8>
  </property>
  <property fmtid="{D5CDD505-2E9C-101B-9397-08002B2CF9AE}" pid="11" name="EktFolderName">
    <vt:lpwstr/>
  </property>
  <property fmtid="{D5CDD505-2E9C-101B-9397-08002B2CF9AE}" pid="12" name="EktQuickLink">
    <vt:lpwstr>DownloadAsset.aspx?id=15032389586</vt:lpwstr>
  </property>
  <property fmtid="{D5CDD505-2E9C-101B-9397-08002B2CF9AE}" pid="13" name="EktSearchable">
    <vt:r8>1</vt:r8>
  </property>
  <property fmtid="{D5CDD505-2E9C-101B-9397-08002B2CF9AE}" pid="14" name="EktTaxCategory">
    <vt:lpwstr/>
  </property>
  <property fmtid="{D5CDD505-2E9C-101B-9397-08002B2CF9AE}" pid="15" name="ekttaxonomyenabled">
    <vt:r8>1</vt:r8>
  </property>
</Properties>
</file>