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B1C9-DFBF-40A0-872A-A181922C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CB0-37E5-4556-9C6F-D632C013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792-B5B0-49B4-939D-4640D902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CD1-8AB0-478E-8124-8C05A2B5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1BE-67AE-4F6D-B5FF-9BEF3A1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BBB8-DEEE-4BC0-BFFD-0CE7F0EF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865B-CD0F-4B1D-B523-556B401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EAF-4DBC-43E2-B2B9-55E93016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8EC-85CF-4FCB-9541-56C7E5C9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423-4F64-4A40-B134-9A31D37B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21B-605C-4EE9-BCB2-09D290C7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E3D-4C0D-4BAA-8ADD-D11EC7AF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86E-C3F2-4EC6-A00B-C0B5F214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American Association of State Colleges and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Guard Study of 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0968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er on-line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 administrative staff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clas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ructure IT and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  Book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83808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  <a:ea typeface="Times New Roman"/>
              </a:rPr>
              <a:t>FHSU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895480" y="54831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       Non-teaching        Teaching fa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666880" y="5545080"/>
            <a:ext cx="228600" cy="152280"/>
          </a:xfrm>
          <a:prstGeom prst="rect">
            <a:avLst/>
          </a:prstGeom>
          <a:solidFill>
            <a:srgbClr val="ffd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429000" y="5559480"/>
            <a:ext cx="2286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334120" y="5559480"/>
            <a:ext cx="228600" cy="152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1" descr=""/>
          <p:cNvPicPr/>
          <p:nvPr/>
        </p:nvPicPr>
        <p:blipFill>
          <a:blip r:embed="rId2"/>
          <a:stretch/>
        </p:blipFill>
        <p:spPr>
          <a:xfrm>
            <a:off x="876240" y="1817640"/>
            <a:ext cx="769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8440" y="3047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00200" y="259092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me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rental cars instead of personal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student workforce to fill vacant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technolog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. Multi-discipline/Cross-disciplin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52120" y="3047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ositioned well because of Duty to Dream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FY 2010 Budge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90920" y="2590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pend Action Plan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E Rol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er Schoo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Day Summer Work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udget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ts/Sweeps/Unfunded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Y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$480,367 bas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133,000 technology match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266,000 state fund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    2,906 energy conservational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253,390 prio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113,842 equipmen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 $1,249,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udget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ts/Sweeps/Unfunded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Y2003 (began tuition ow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507,000 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235,236 salary ann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  75,857 fringe rate &amp; 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  $1,229,871 November base budget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$2,047,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FY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$1,126,62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0% covered by one-time action plan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83808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FY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41148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$2,628,7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0% plus 4.0% = 7.0% total FY2010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art"/>
          <p:cNvPicPr/>
          <p:nvPr/>
        </p:nvPicPr>
        <p:blipFill>
          <a:blip r:embed="rId2"/>
          <a:stretch/>
        </p:blipFill>
        <p:spPr>
          <a:xfrm>
            <a:off x="1371600" y="1898640"/>
            <a:ext cx="678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7632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750 million dolla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15% cut of all state agencies to fix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down turn in capit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 sales tax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no major loss i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t the cross roads between hope and f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Dr. Edward Ha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American Association of State Colleges and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Guard Study of 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752480" y="3352680"/>
            <a:ext cx="6858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ergy and Infrastructu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ortium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part-time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tructure food and residenti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rounds 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03:53Z</dcterms:created>
  <dc:creator>Suzanne Klaus</dc:creator>
  <dc:description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dc:description>
  <dc:language>en-US</dc:language>
  <cp:lastModifiedBy>Suzanne Klaus</cp:lastModifiedBy>
  <dcterms:modified xsi:type="dcterms:W3CDTF">2008-12-05T20:15:48Z</dcterms:modified>
  <cp:revision>0</cp:revision>
  <dc:subject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dc:subject>
  <dc:title>Budget Challenge 2009-2010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vt:lpwstr>
  </property>
  <property fmtid="{D5CDD505-2E9C-101B-9397-08002B2CF9AE}" pid="3" name="EktCmsSize">
    <vt:r8>40550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24Z</vt:filetime>
  </property>
  <property fmtid="{D5CDD505-2E9C-101B-9397-08002B2CF9AE}" pid="8" name="EktDateModified">
    <vt:filetime>2010-07-06T15:08:25Z</vt:filetime>
  </property>
  <property fmtid="{D5CDD505-2E9C-101B-9397-08002B2CF9AE}" pid="9" name="EktEDescription">
    <vt:lpwstr>Summary 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586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