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AB7C-0E3F-437C-B143-DE9BBCF91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BCE0-3601-4F2B-A5E5-BC0954199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CBE2-F500-4ED5-B4B4-89A3D1707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E0849-9774-4F1E-B8C1-2C324BB34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3D4F-7831-4FAC-B94D-3BBF7A9D4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BC6E-BD46-46DC-A0D4-56A078789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0531-256B-4BBF-8645-C8B00626D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AAC9-A86A-4604-B1D7-A554764C3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1D6E-BB45-46F1-BE53-48E262F9A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63CB-E117-433C-BB99-A794D325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9B7B-A5D4-445E-BFED-748D3434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5D8D-3008-4B23-875E-A3B0DF67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4191-F10B-40B1-A9D6-9D2614583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904760" y="251424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500"/>
                </a:solidFill>
                <a:latin typeface="Arial"/>
              </a:rPr>
              <a:t>Difficult times need new id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"/>
          <p:cNvSpPr/>
          <p:nvPr/>
        </p:nvSpPr>
        <p:spPr>
          <a:xfrm rot="21011400">
            <a:off x="1487520" y="4176720"/>
            <a:ext cx="7086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d500"/>
                </a:solidFill>
                <a:latin typeface="Brush Script MT"/>
              </a:rPr>
              <a:t>Thank you for your ideas and thought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52120" y="22093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500"/>
                </a:solidFill>
                <a:latin typeface="Arial"/>
              </a:rPr>
              <a:t>Positioned well because of Duty to Dream growth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1676520" y="3505320"/>
            <a:ext cx="6172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$1M in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$500,000 in ef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685800" y="9144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Planning for Chan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1523880" y="1523880"/>
            <a:ext cx="6324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act of C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chart.png"/>
          <p:cNvPicPr/>
          <p:nvPr/>
        </p:nvPicPr>
        <p:blipFill>
          <a:blip r:embed="rId2"/>
          <a:stretch/>
        </p:blipFill>
        <p:spPr>
          <a:xfrm>
            <a:off x="838080" y="2463840"/>
            <a:ext cx="7729560" cy="317484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4"/>
          <p:cNvSpPr/>
          <p:nvPr/>
        </p:nvSpPr>
        <p:spPr>
          <a:xfrm>
            <a:off x="4648320" y="5562720"/>
            <a:ext cx="4267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*817 Current FHSU Pos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d500"/>
                </a:solidFill>
                <a:latin typeface="Arial"/>
              </a:rPr>
              <a:t>Fort Hays State University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udget Challenge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Y 2009-20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d500"/>
                </a:solidFill>
                <a:latin typeface="Arial"/>
              </a:rPr>
              <a:t>Fort Hays State University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udget Challenge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Y 2009-20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1760" y="2743200"/>
            <a:ext cx="7543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task ahead of us is never as great as the power behind us.</a:t>
            </a:r>
            <a:br>
              <a:rPr sz="3600"/>
            </a:br>
            <a:r>
              <a:rPr b="1" i="1" lang="en-US" sz="3600" spc="-1" strike="noStrike">
                <a:solidFill>
                  <a:srgbClr val="ffd500"/>
                </a:solidFill>
                <a:latin typeface="Arial"/>
              </a:rPr>
              <a:t>-Ralph Waldo Emer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9144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urrent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609480" y="129528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te picture of income and exp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chart"/>
          <p:cNvPicPr/>
          <p:nvPr/>
        </p:nvPicPr>
        <p:blipFill>
          <a:blip r:embed="rId2"/>
          <a:stretch/>
        </p:blipFill>
        <p:spPr>
          <a:xfrm>
            <a:off x="1371600" y="1898640"/>
            <a:ext cx="678168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9144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urrent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609480" y="129528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te picture of income and exp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chart.png"/>
          <p:cNvPicPr/>
          <p:nvPr/>
        </p:nvPicPr>
        <p:blipFill>
          <a:blip r:embed="rId2"/>
          <a:stretch/>
        </p:blipFill>
        <p:spPr>
          <a:xfrm>
            <a:off x="1371600" y="1905120"/>
            <a:ext cx="678960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joblosses26091.gif"/>
          <p:cNvPicPr/>
          <p:nvPr/>
        </p:nvPicPr>
        <p:blipFill>
          <a:blip r:embed="rId2"/>
          <a:stretch/>
        </p:blipFill>
        <p:spPr>
          <a:xfrm>
            <a:off x="1447920" y="914400"/>
            <a:ext cx="7162560" cy="55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national debt new.jpg"/>
          <p:cNvPicPr/>
          <p:nvPr/>
        </p:nvPicPr>
        <p:blipFill>
          <a:blip r:embed="rId2"/>
          <a:stretch/>
        </p:blipFill>
        <p:spPr>
          <a:xfrm>
            <a:off x="2197080" y="888840"/>
            <a:ext cx="4749840" cy="508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762120" y="2666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 are at the cross roads between hope and fear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-Dr. Edward Hamm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828800" y="2209320"/>
            <a:ext cx="678168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500"/>
                </a:solidFill>
                <a:latin typeface="Arial"/>
              </a:rPr>
              <a:t>Planning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d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500"/>
                </a:solidFill>
                <a:latin typeface="Arial"/>
              </a:rPr>
              <a:t>Serve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d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500"/>
                </a:solidFill>
                <a:latin typeface="Arial"/>
              </a:rPr>
              <a:t>Keep costs down for students (peer da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d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500"/>
                </a:solidFill>
                <a:latin typeface="Arial"/>
              </a:rPr>
              <a:t>Protect faculty and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d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500"/>
                </a:solidFill>
                <a:latin typeface="Arial"/>
              </a:rPr>
              <a:t>Ask people to do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d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500"/>
                </a:solidFill>
                <a:latin typeface="Arial"/>
              </a:rPr>
              <a:t>Minimize economic impact on Ellis Cou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3:58:47Z</dcterms:created>
  <dc:creator>Suzanne Klaus</dc:creator>
  <dc:description>&amp;lt;p&amp;gt;Fort Hays State University Budget Challenge FY 2009-2010 The task ahead of us is never as great as the power behind us. -Ralph Waldo Emerson Current Problem State picture of income and expense Current Problem State picture of income and expense “We are at the cross roads between hope and fear.” -Dr. Edward Hammond Plan&amp;lt;/p&amp;gt;</dc:description>
  <dc:language>en-US</dc:language>
  <cp:lastModifiedBy>Suzanne Klaus</cp:lastModifiedBy>
  <cp:lastPrinted>2009-04-22T15:08:36Z</cp:lastPrinted>
  <dcterms:modified xsi:type="dcterms:W3CDTF">2009-04-22T19:11:21Z</dcterms:modified>
  <cp:revision>0</cp:revision>
  <dc:subject>&amp;lt;p&amp;gt;Fort Hays State University Budget Challenge FY 2009-2010 The task ahead of us is never as great as the power behind us. -Ralph Waldo Emerson Current Problem State picture of income and expense Current Problem State picture of income and expense “We are at the cross roads between hope and fear.” -Dr. Edward Hammond Plan&amp;lt;/p&amp;gt;</dc:subject>
  <dc:title>Budget update April 200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EktCmsPath">
    <vt:lpwstr>&amp;lt;p&amp;gt;Fort Hays State University Budget Challenge FY 2009-2010 The task ahead of us is never as great as the power behind us. -Ralph Waldo Emerson Current Problem State picture of income and expense Current Problem State picture of income and expense “We are at the cross roads between hope and fear.” -Dr. Edward Hammond Plan&amp;lt;/p&amp;gt;</vt:lpwstr>
  </property>
  <property fmtid="{D5CDD505-2E9C-101B-9397-08002B2CF9AE}" pid="3" name="EktCmsSize">
    <vt:r8>891392</vt:r8>
  </property>
  <property fmtid="{D5CDD505-2E9C-101B-9397-08002B2CF9AE}" pid="4" name="EktContentLanguage">
    <vt:r8>1033</vt:r8>
  </property>
  <property fmtid="{D5CDD505-2E9C-101B-9397-08002B2CF9AE}" pid="5" name="EktContentSubType">
    <vt:r8>0</vt:r8>
  </property>
  <property fmtid="{D5CDD505-2E9C-101B-9397-08002B2CF9AE}" pid="6" name="EktContentType">
    <vt:r8>101</vt:r8>
  </property>
  <property fmtid="{D5CDD505-2E9C-101B-9397-08002B2CF9AE}" pid="7" name="EktDateCreated">
    <vt:filetime>2010-07-06T15:08:30Z</vt:filetime>
  </property>
  <property fmtid="{D5CDD505-2E9C-101B-9397-08002B2CF9AE}" pid="8" name="EktDateModified">
    <vt:filetime>2010-07-06T15:08:31Z</vt:filetime>
  </property>
  <property fmtid="{D5CDD505-2E9C-101B-9397-08002B2CF9AE}" pid="9" name="EktEDescription">
    <vt:lpwstr>Summary &amp;lt;p&amp;gt;Fort Hays State University Budget Challenge FY 2009-2010 The task ahead of us is never as great as the power behind us. -Ralph Waldo Emerson Current Problem State picture of income and expense Current Problem State picture of income and expense “We are at the cross roads between hope and fear.” -Dr. Edward Hammond Plan&amp;lt;/p&amp;gt;</vt:lpwstr>
  </property>
  <property fmtid="{D5CDD505-2E9C-101B-9397-08002B2CF9AE}" pid="10" name="EktExpiryType">
    <vt:r8>1</vt:r8>
  </property>
  <property fmtid="{D5CDD505-2E9C-101B-9397-08002B2CF9AE}" pid="11" name="EktFolderName">
    <vt:lpwstr/>
  </property>
  <property fmtid="{D5CDD505-2E9C-101B-9397-08002B2CF9AE}" pid="12" name="EktQuickLink">
    <vt:lpwstr>DownloadAsset.aspx?id=15032389592</vt:lpwstr>
  </property>
  <property fmtid="{D5CDD505-2E9C-101B-9397-08002B2CF9AE}" pid="13" name="EktSearchable">
    <vt:r8>1</vt:r8>
  </property>
  <property fmtid="{D5CDD505-2E9C-101B-9397-08002B2CF9AE}" pid="14" name="EktTaxCategory">
    <vt:lpwstr/>
  </property>
  <property fmtid="{D5CDD505-2E9C-101B-9397-08002B2CF9AE}" pid="15" name="ekttaxonomyenabled">
    <vt:r8>1</vt:r8>
  </property>
</Properties>
</file>