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E7B-A9BD-4E1B-BF2A-484CDDD64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7B9-3AB1-4325-919A-98D2791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631-19E5-4C7E-852F-B45EB704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38D-C27E-4CF0-B5AD-1D44960D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735-CCE8-486A-8880-E72BCE88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28F-B501-428C-A535-4E878B16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068-6280-4384-AC62-F81F1C4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294-8164-4353-99E4-F64E6447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554-F096-46FE-A6FB-EF11B7A8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FC1-E8F9-4324-8910-761379E5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126-E27A-4EC6-8ED4-A71702F7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445-712C-4A06-8A74-DE7455D5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962D-28C4-44A6-8E8E-319613797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04760" y="2514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 rot="21011400">
            <a:off x="1487520" y="4176720"/>
            <a:ext cx="7086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500"/>
                </a:solidFill>
                <a:latin typeface="Brush Script MT"/>
              </a:rPr>
              <a:t>Thank you for your ideas and though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093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ositioned well because of Duty to Dream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76520" y="35053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1M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500,000 in ef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hart.png"/>
          <p:cNvPicPr/>
          <p:nvPr/>
        </p:nvPicPr>
        <p:blipFill>
          <a:blip r:embed="rId2"/>
          <a:stretch/>
        </p:blipFill>
        <p:spPr>
          <a:xfrm>
            <a:off x="838080" y="2463840"/>
            <a:ext cx="7729560" cy="3174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743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ask ahead of us is never as great as the power behind us.</a:t>
            </a:r>
            <a:br>
              <a:rPr sz="3600"/>
            </a:br>
            <a:r>
              <a:rPr b="1" i="1" lang="en-US" sz="3600" spc="-1" strike="noStrike">
                <a:solidFill>
                  <a:srgbClr val="ffd500"/>
                </a:solidFill>
                <a:latin typeface="Arial"/>
              </a:rPr>
              <a:t>-Ralph Waldo Em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picture of income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hart"/>
          <p:cNvPicPr/>
          <p:nvPr/>
        </p:nvPicPr>
        <p:blipFill>
          <a:blip r:embed="rId2"/>
          <a:stretch/>
        </p:blipFill>
        <p:spPr>
          <a:xfrm>
            <a:off x="1371600" y="1898640"/>
            <a:ext cx="67816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picture of income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hart.png"/>
          <p:cNvPicPr/>
          <p:nvPr/>
        </p:nvPicPr>
        <p:blipFill>
          <a:blip r:embed="rId2"/>
          <a:stretch/>
        </p:blipFill>
        <p:spPr>
          <a:xfrm>
            <a:off x="1371600" y="1905120"/>
            <a:ext cx="6789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joblosses26091.gif"/>
          <p:cNvPicPr/>
          <p:nvPr/>
        </p:nvPicPr>
        <p:blipFill>
          <a:blip r:embed="rId2"/>
          <a:stretch/>
        </p:blipFill>
        <p:spPr>
          <a:xfrm>
            <a:off x="1447920" y="914400"/>
            <a:ext cx="71625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ational debt new.jpg"/>
          <p:cNvPicPr/>
          <p:nvPr/>
        </p:nvPicPr>
        <p:blipFill>
          <a:blip r:embed="rId2"/>
          <a:stretch/>
        </p:blipFill>
        <p:spPr>
          <a:xfrm>
            <a:off x="2197080" y="888840"/>
            <a:ext cx="47498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re at the cross roads between hope and fe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Dr. Edward Ham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58:47Z</dcterms:created>
  <dc:creator>Suzanne Klaus</dc:creator>
  <dc:description>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dc:description>
  <dc:language>en-US</dc:language>
  <cp:lastModifiedBy>Suzanne Klaus</cp:lastModifiedBy>
  <cp:lastPrinted>2009-04-22T15:08:36Z</cp:lastPrinted>
  <dcterms:modified xsi:type="dcterms:W3CDTF">2009-04-22T19:11:21Z</dcterms:modified>
  <cp:revision>0</cp:revision>
  <dc:subject>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dc:subject>
  <dc:title>Budget update April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vt:lpwstr>
  </property>
  <property fmtid="{D5CDD505-2E9C-101B-9397-08002B2CF9AE}" pid="3" name="EktCmsSize">
    <vt:r8>891392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07-06T15:08:30Z</vt:filetime>
  </property>
  <property fmtid="{D5CDD505-2E9C-101B-9397-08002B2CF9AE}" pid="8" name="EktDateModified">
    <vt:filetime>2010-07-06T15:08:31Z</vt:filetime>
  </property>
  <property fmtid="{D5CDD505-2E9C-101B-9397-08002B2CF9AE}" pid="9" name="EktEDescription">
    <vt:lpwstr>Summary 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vt:lpwstr>
  </property>
  <property fmtid="{D5CDD505-2E9C-101B-9397-08002B2CF9AE}" pid="10" name="EktExpiryType">
    <vt:r8>1</vt:r8>
  </property>
  <property fmtid="{D5CDD505-2E9C-101B-9397-08002B2CF9AE}" pid="11" name="EktFolderName">
    <vt:lpwstr/>
  </property>
  <property fmtid="{D5CDD505-2E9C-101B-9397-08002B2CF9AE}" pid="12" name="EktQuickLink">
    <vt:lpwstr>DownloadAsset.aspx?id=15032389592</vt:lpwstr>
  </property>
  <property fmtid="{D5CDD505-2E9C-101B-9397-08002B2CF9AE}" pid="13" name="EktSearchable">
    <vt:r8>1</vt:r8>
  </property>
  <property fmtid="{D5CDD505-2E9C-101B-9397-08002B2CF9AE}" pid="14" name="EktTaxCategory">
    <vt:lpwstr/>
  </property>
  <property fmtid="{D5CDD505-2E9C-101B-9397-08002B2CF9AE}" pid="15" name="ekttaxonomyenabled">
    <vt:r8>1</vt:r8>
  </property>
</Properties>
</file>