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C662-4333-4FFA-865A-345619C6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239D-A035-4CD8-9363-9C008532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9CB0-5674-4A32-B831-AF99135C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4484-A792-4124-B25D-CC2E2882B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A7C1-0F29-4C8E-AC0B-255B1452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2092-4D7E-4FCE-B9AC-DB510F35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1E33-15E7-4344-8748-E88DFB74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2104-8B27-4184-8E77-0ABF71E4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353A-5856-410E-BDA2-B4CA8E72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B274-64B1-401A-AA30-D6CBDF69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04B7-F259-4217-BA08-CBA2BD0B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6F00-BE9A-4CCD-9DC2-DA72E503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C507-4870-44B4-AAE7-0CA9D5E51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828800" y="2362320"/>
            <a:ext cx="6781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500"/>
                </a:solidFill>
                <a:latin typeface="Arial"/>
              </a:rPr>
              <a:t>Planning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e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ep costs down for students (peer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ect faculty and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k people to do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imize economic impact on Ellis Cou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1828800" y="2362320"/>
            <a:ext cx="6781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500"/>
                </a:solidFill>
                <a:latin typeface="Arial"/>
              </a:rPr>
              <a:t>Planning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e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2819520" y="32004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3% O.C.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800+ Fres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10% V.C.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828800" y="2362320"/>
            <a:ext cx="6781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500"/>
                </a:solidFill>
                <a:latin typeface="Arial"/>
              </a:rPr>
              <a:t>Planning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ep costs down for students (peer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2819520" y="320040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$6.85 increase per 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7.5%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$98.20 per 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828800" y="2362320"/>
            <a:ext cx="6781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500"/>
                </a:solidFill>
                <a:latin typeface="Arial"/>
              </a:rPr>
              <a:t>Planning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ect faculty and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2819520" y="320040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28 positions imp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3.5% of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0 people ter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1828800" y="2362320"/>
            <a:ext cx="6781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500"/>
                </a:solidFill>
                <a:latin typeface="Arial"/>
              </a:rPr>
              <a:t>Planning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imize economic impact on Ellis Cou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2819520" y="32004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Picken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Sport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Stimulus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828800" y="2362320"/>
            <a:ext cx="6781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500"/>
                </a:solidFill>
                <a:latin typeface="Arial"/>
              </a:rPr>
              <a:t>Planning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k people to do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2819520" y="3200400"/>
            <a:ext cx="44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Summer School re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Expand VC class 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Athletic Expa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904760" y="26665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500"/>
                </a:solidFill>
                <a:latin typeface="Arial"/>
              </a:rPr>
              <a:t>Difficult times need new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 rot="21011400">
            <a:off x="1487160" y="4329000"/>
            <a:ext cx="7086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rush Script MT"/>
              </a:rPr>
              <a:t>Thank you for your ideas and thought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7720" y="198108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time when the game is changing. Hunkering down is not a smart option particularly when other institutions around the world are hardly standing idly b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-Molly Corbett Broad, President</a:t>
            </a:r>
            <a:br>
              <a:rPr sz="2800"/>
            </a:b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American Council on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95280" y="1752120"/>
            <a:ext cx="69343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500"/>
                </a:solidFill>
                <a:latin typeface="Arial"/>
              </a:rPr>
              <a:t>Prom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gg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rong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u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tigerwhiteOUTLINE"/>
          <p:cNvPicPr/>
          <p:nvPr/>
        </p:nvPicPr>
        <p:blipFill>
          <a:blip r:embed="rId2"/>
          <a:stretch/>
        </p:blipFill>
        <p:spPr>
          <a:xfrm>
            <a:off x="2286000" y="990720"/>
            <a:ext cx="50799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500"/>
                </a:solidFill>
                <a:latin typeface="Arial"/>
              </a:rPr>
              <a:t>TAKING CHARGE OF CHANGE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Y–2009-2010 Budget Challe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Planning for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1523880" y="1523880"/>
            <a:ext cx="6324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ct of C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hart.png"/>
          <p:cNvPicPr/>
          <p:nvPr/>
        </p:nvPicPr>
        <p:blipFill>
          <a:blip r:embed="rId2"/>
          <a:stretch/>
        </p:blipFill>
        <p:spPr>
          <a:xfrm>
            <a:off x="838080" y="2463840"/>
            <a:ext cx="7729560" cy="31748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4648320" y="55627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817 Current FHSU 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Planning for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523880" y="1523880"/>
            <a:ext cx="6324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ct of C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648320" y="55627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817 Current FHSU 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chart2.ai"/>
          <p:cNvPicPr/>
          <p:nvPr/>
        </p:nvPicPr>
        <p:blipFill>
          <a:blip r:embed="rId2"/>
          <a:stretch/>
        </p:blipFill>
        <p:spPr>
          <a:xfrm>
            <a:off x="914400" y="685800"/>
            <a:ext cx="8875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14400" y="2057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urrent Status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685800" y="2819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ga Budget Reduction       $2,740,39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7.2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mnibus Budget Redu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990,20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8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funded Manda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768,9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7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TOTAL        $4,499,499     11.9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175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Unfunded Mand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45720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ions/Tenure/Degree Completion       $76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funded Classified Longevity       $123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HI &amp; Fringe Benefits     $2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ties       $97,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fied Under-market Adjustment     $272,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TOTAL    $768,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art 5" descr=""/>
          <p:cNvPicPr/>
          <p:nvPr/>
        </p:nvPicPr>
        <p:blipFill>
          <a:blip r:embed="rId2"/>
          <a:stretch/>
        </p:blipFill>
        <p:spPr>
          <a:xfrm>
            <a:off x="1139760" y="933480"/>
            <a:ext cx="7639200" cy="55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1828800" y="2362320"/>
            <a:ext cx="6781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500"/>
                </a:solidFill>
                <a:latin typeface="Arial"/>
              </a:rPr>
              <a:t>Planning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e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ep costs down for students (peer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ect faculty and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k people to do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imize economic impact on Ellis Cou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Planning for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523880" y="1523880"/>
            <a:ext cx="6324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ct of C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4648320" y="55627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817 Current FHSU 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chart3.ai"/>
          <p:cNvPicPr/>
          <p:nvPr/>
        </p:nvPicPr>
        <p:blipFill>
          <a:blip r:embed="rId2"/>
          <a:stretch/>
        </p:blipFill>
        <p:spPr>
          <a:xfrm>
            <a:off x="268200" y="380880"/>
            <a:ext cx="8875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3:50:16Z</dcterms:created>
  <dc:creator>Suzanne Klaus</dc:creator>
  <dc:description>&amp;lt;p&amp;gt;TAKING CHARGE OF CHANGE FY–2009-2010 Budget Challenge Planning for Change Impact of Cuts *817 Current FHSU Positions Planning for Change Impact of Cuts *817 Current FHSU Positions Current Status Report Mega Budget Reduction       $2,740,391 7.29% Omnibus Budget Reduction $990,208 2.84% Unfunded Mandates $768,900 1.79% &amp;lt;/p&amp;gt;</dc:description>
  <dc:language>en-US</dc:language>
  <cp:lastModifiedBy>Suzanne Klaus</cp:lastModifiedBy>
  <cp:lastPrinted>2009-05-08T16:05:18Z</cp:lastPrinted>
  <dcterms:modified xsi:type="dcterms:W3CDTF">2009-05-14T16:37:29Z</dcterms:modified>
  <cp:revision>0</cp:revision>
  <dc:subject>&amp;lt;p&amp;gt;TAKING CHARGE OF CHANGE FY–2009-2010 Budget Challenge Planning for Change Impact of Cuts *817 Current FHSU Positions Planning for Change Impact of Cuts *817 Current FHSU Positions Current Status Report Mega Budget Reduction       $2,740,391 7.29% Omnibus Budget Reduction $990,208 2.84% Unfunded Mandates $768,900 1.79% &amp;lt;/p&amp;gt;</dc:subject>
  <dc:title>May09.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ktCmsPath">
    <vt:lpwstr>&amp;lt;p&amp;gt;TAKING CHARGE OF CHANGE FY–2009-2010 Budget Challenge Planning for Change Impact of Cuts *817 Current FHSU Positions Planning for Change Impact of Cuts *817 Current FHSU Positions Current Status Report Mega Budget Reduction       $2,740,391 7.29% Omnibus Budget Reduction $990,208 2.84% Unfunded Mandates $768,900 1.79% &amp;lt;/p&amp;gt;</vt:lpwstr>
  </property>
  <property fmtid="{D5CDD505-2E9C-101B-9397-08002B2CF9AE}" pid="3" name="EktCmsSize">
    <vt:r8>1004032</vt:r8>
  </property>
  <property fmtid="{D5CDD505-2E9C-101B-9397-08002B2CF9AE}" pid="4" name="EktContentLanguage">
    <vt:r8>1033</vt:r8>
  </property>
  <property fmtid="{D5CDD505-2E9C-101B-9397-08002B2CF9AE}" pid="5" name="EktContentSubType">
    <vt:r8>0</vt:r8>
  </property>
  <property fmtid="{D5CDD505-2E9C-101B-9397-08002B2CF9AE}" pid="6" name="EktContentType">
    <vt:r8>101</vt:r8>
  </property>
  <property fmtid="{D5CDD505-2E9C-101B-9397-08002B2CF9AE}" pid="7" name="EktDateCreated">
    <vt:filetime>2010-07-06T15:08:44Z</vt:filetime>
  </property>
  <property fmtid="{D5CDD505-2E9C-101B-9397-08002B2CF9AE}" pid="8" name="EktDateModified">
    <vt:filetime>2010-07-06T15:08:45Z</vt:filetime>
  </property>
  <property fmtid="{D5CDD505-2E9C-101B-9397-08002B2CF9AE}" pid="9" name="EktEDescription">
    <vt:lpwstr>Summary &amp;lt;p&amp;gt;TAKING CHARGE OF CHANGE FY–2009-2010 Budget Challenge Planning for Change Impact of Cuts *817 Current FHSU Positions Planning for Change Impact of Cuts *817 Current FHSU Positions Current Status Report Mega Budget Reduction       $2,740,391 7.29% Omnibus Budget Reduction $990,208 2.84% Unfunded Mandates $768,900 1.79% &amp;lt;/p&amp;gt;</vt:lpwstr>
  </property>
  <property fmtid="{D5CDD505-2E9C-101B-9397-08002B2CF9AE}" pid="10" name="EktExpiryType">
    <vt:r8>1</vt:r8>
  </property>
  <property fmtid="{D5CDD505-2E9C-101B-9397-08002B2CF9AE}" pid="11" name="EktFolderName">
    <vt:lpwstr/>
  </property>
  <property fmtid="{D5CDD505-2E9C-101B-9397-08002B2CF9AE}" pid="12" name="EktQuickLink">
    <vt:lpwstr>DownloadAsset.aspx?id=15032389609</vt:lpwstr>
  </property>
  <property fmtid="{D5CDD505-2E9C-101B-9397-08002B2CF9AE}" pid="13" name="EktSearchable">
    <vt:r8>1</vt:r8>
  </property>
  <property fmtid="{D5CDD505-2E9C-101B-9397-08002B2CF9AE}" pid="14" name="EktTaxCategory">
    <vt:lpwstr/>
  </property>
  <property fmtid="{D5CDD505-2E9C-101B-9397-08002B2CF9AE}" pid="15" name="ekttaxonomyenabled">
    <vt:r8>1</vt:r8>
  </property>
</Properties>
</file>