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9E2E-3018-4EC8-B6DA-A9A056DD3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EC87-E21B-4D5A-BC48-223D040F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0F22-2B65-45A4-847B-00B2CA5BD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C02B-98A8-431B-81EB-EE8BF6673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2858-58CC-4488-BAA2-09578298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9502-D9CD-4D8D-A60E-3DF1C93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25D2-645F-4518-A9D2-F58E9FCA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4DD-3A7C-406C-B34D-C822AE46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424-AD15-4B2E-AAB9-CFEB82B8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640-B0D8-4A0F-827E-6534919C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8DED-42F3-4EDD-9D4C-B5D3FBF4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C7E-0B6F-4368-B433-9D3B5A9C9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9FFC-6D4F-450C-B13A-AFFF8A0A25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economic impact on Ellis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819520" y="3200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3% O.C.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800+ Fresh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10% V.C.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2819520" y="320040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$6.85 increase per 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7.5% incr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$98.20 per S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2819520" y="320040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28 positions imp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3.5% of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0 people ter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economic impact on Ellis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"/>
          <p:cNvSpPr/>
          <p:nvPr/>
        </p:nvSpPr>
        <p:spPr>
          <a:xfrm>
            <a:off x="2819520" y="32004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Picken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port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timulus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"/>
          <p:cNvSpPr/>
          <p:nvPr/>
        </p:nvSpPr>
        <p:spPr>
          <a:xfrm>
            <a:off x="2819520" y="3200400"/>
            <a:ext cx="44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ummer School re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Expand VC class 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Athletic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904760" y="26665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Difficult times need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 rot="21011400">
            <a:off x="1487160" y="4329000"/>
            <a:ext cx="7086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rush Script MT"/>
              </a:rPr>
              <a:t>Thank you for your ideas and though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7720" y="1981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a time when the game is changing. Hunkering down is not a smart option particularly when other institutions around the world are hardly standing idly by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-Molly Corbett Broad, President</a:t>
            </a:r>
            <a:br>
              <a:rPr sz="2800"/>
            </a:br>
            <a:r>
              <a:rPr b="0" i="1" lang="en-US" sz="2800" spc="-1" strike="noStrike">
                <a:solidFill>
                  <a:srgbClr val="ffcc00"/>
                </a:solidFill>
                <a:latin typeface="Arial"/>
              </a:rPr>
              <a:t>American Council o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95280" y="1752120"/>
            <a:ext cx="69343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d500"/>
                </a:solidFill>
                <a:latin typeface="Arial"/>
              </a:rPr>
              <a:t>Promi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ig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ro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u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tigerwhiteOUTLINE"/>
          <p:cNvPicPr/>
          <p:nvPr/>
        </p:nvPicPr>
        <p:blipFill>
          <a:blip r:embed="rId2"/>
          <a:stretch/>
        </p:blipFill>
        <p:spPr>
          <a:xfrm>
            <a:off x="2286000" y="990720"/>
            <a:ext cx="50799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TAKING CHARGE OF CHA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–2009-2010 Budget Challe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lanning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1523880" y="1523880"/>
            <a:ext cx="6324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f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hart.png"/>
          <p:cNvPicPr/>
          <p:nvPr/>
        </p:nvPicPr>
        <p:blipFill>
          <a:blip r:embed="rId2"/>
          <a:stretch/>
        </p:blipFill>
        <p:spPr>
          <a:xfrm>
            <a:off x="838080" y="2463840"/>
            <a:ext cx="7729560" cy="317484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4648320" y="5562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817 Current FHSU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lanning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523880" y="1523880"/>
            <a:ext cx="6324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f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4648320" y="5562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817 Current FHSU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chart2.ai"/>
          <p:cNvPicPr/>
          <p:nvPr/>
        </p:nvPicPr>
        <p:blipFill>
          <a:blip r:embed="rId2"/>
          <a:stretch/>
        </p:blipFill>
        <p:spPr>
          <a:xfrm>
            <a:off x="914400" y="685800"/>
            <a:ext cx="887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14400" y="2057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Status Re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85800" y="2819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ega Budget Reduction       $2,740,39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7.2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nibus Budget Reduc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990,20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84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unded Manda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768,9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79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TOTAL        $4,499,499     11.9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40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Unfunded Mand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2514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otions/Tenure/Degree Completion       $76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funded Classified Longevity       $123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HI &amp; Fringe Benefits     $200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ties       $97,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ed Under-market Adjustment     $272,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TOTAL    $768,9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art 5" descr=""/>
          <p:cNvPicPr/>
          <p:nvPr/>
        </p:nvPicPr>
        <p:blipFill>
          <a:blip r:embed="rId2"/>
          <a:stretch/>
        </p:blipFill>
        <p:spPr>
          <a:xfrm>
            <a:off x="1139760" y="933480"/>
            <a:ext cx="7639200" cy="55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1828800" y="2362320"/>
            <a:ext cx="6781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nimize economic impact on Ellis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lanning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523880" y="1523880"/>
            <a:ext cx="6324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f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648320" y="5562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817 Current FHSU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chart3.ai"/>
          <p:cNvPicPr/>
          <p:nvPr/>
        </p:nvPicPr>
        <p:blipFill>
          <a:blip r:embed="rId2"/>
          <a:stretch/>
        </p:blipFill>
        <p:spPr>
          <a:xfrm>
            <a:off x="268200" y="380880"/>
            <a:ext cx="887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4T13:50:16Z</dcterms:created>
  <dc:creator>Suzanne Klaus</dc:creator>
  <dc:description>&amp;lt;p&amp;gt;TAKING CHARGE OF CHANGE FY–2009-2010 Budget Challenge Planning for Change Impact of Cuts *817 Current FHSU Positions Planning for Change Impact of Cuts *817 Current FHSU Positions Current Status Report Mega Budget Reduction       $2,740,391 7.29% Omnibus Budget Reduction $990,208 2.84% Unfunded Mandates $768,900 1.79% &amp;lt;/p&amp;gt;</dc:description>
  <dc:language>en-US</dc:language>
  <cp:lastModifiedBy>Suzanne Klaus</cp:lastModifiedBy>
  <cp:lastPrinted>2009-05-08T16:05:18Z</cp:lastPrinted>
  <dcterms:modified xsi:type="dcterms:W3CDTF">2009-05-14T16:37:29Z</dcterms:modified>
  <cp:revision>0</cp:revision>
  <dc:subject>&amp;lt;p&amp;gt;TAKING CHARGE OF CHANGE FY–2009-2010 Budget Challenge Planning for Change Impact of Cuts *817 Current FHSU Positions Planning for Change Impact of Cuts *817 Current FHSU Positions Current Status Report Mega Budget Reduction       $2,740,391 7.29% Omnibus Budget Reduction $990,208 2.84% Unfunded Mandates $768,900 1.79% &amp;lt;/p&amp;gt;</dc:subject>
  <dc:title>May09.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TAKING CHARGE OF CHANGE FY–2009-2010 Budget Challenge Planning for Change Impact of Cuts *817 Current FHSU Positions Planning for Change Impact of Cuts *817 Current FHSU Positions Current Status Report Mega Budget Reduction       $2,740,391 7.29% Omnibus Budget Reduction $990,208 2.84% Unfunded Mandates $768,900 1.79% &amp;lt;/p&amp;gt;</vt:lpwstr>
  </property>
  <property fmtid="{D5CDD505-2E9C-101B-9397-08002B2CF9AE}" pid="3" name="EktCmsSize">
    <vt:r8>1004032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07-06T15:08:44Z</vt:filetime>
  </property>
  <property fmtid="{D5CDD505-2E9C-101B-9397-08002B2CF9AE}" pid="8" name="EktDateModified">
    <vt:filetime>2010-07-06T15:08:45Z</vt:filetime>
  </property>
  <property fmtid="{D5CDD505-2E9C-101B-9397-08002B2CF9AE}" pid="9" name="EktEDescription">
    <vt:lpwstr>Summary &amp;lt;p&amp;gt;TAKING CHARGE OF CHANGE FY–2009-2010 Budget Challenge Planning for Change Impact of Cuts *817 Current FHSU Positions Planning for Change Impact of Cuts *817 Current FHSU Positions Current Status Report Mega Budget Reduction       $2,740,391 7.29% Omnibus Budget Reduction $990,208 2.84% Unfunded Mandates $768,900 1.79% &amp;lt;/p&amp;gt;</vt:lpwstr>
  </property>
  <property fmtid="{D5CDD505-2E9C-101B-9397-08002B2CF9AE}" pid="10" name="EktExpiryType">
    <vt:r8>1</vt:r8>
  </property>
  <property fmtid="{D5CDD505-2E9C-101B-9397-08002B2CF9AE}" pid="11" name="EktFolderName">
    <vt:lpwstr/>
  </property>
  <property fmtid="{D5CDD505-2E9C-101B-9397-08002B2CF9AE}" pid="12" name="EktQuickLink">
    <vt:lpwstr>DownloadAsset.aspx?id=15032389609</vt:lpwstr>
  </property>
  <property fmtid="{D5CDD505-2E9C-101B-9397-08002B2CF9AE}" pid="13" name="EktSearchable">
    <vt:r8>1</vt:r8>
  </property>
  <property fmtid="{D5CDD505-2E9C-101B-9397-08002B2CF9AE}" pid="14" name="EktTaxCategory">
    <vt:lpwstr/>
  </property>
  <property fmtid="{D5CDD505-2E9C-101B-9397-08002B2CF9AE}" pid="15" name="ekttaxonomyenabled">
    <vt:r8>1</vt:r8>
  </property>
</Properties>
</file>